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F37-08DE-4209-9C34-82A41C24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433-5C8E-4417-B893-182EA03D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0CA-CC94-40EA-9D32-9F733DBD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A04-1B41-4710-B49A-4C32053F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3FB-34D2-48BE-8D97-58AB945F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29C-A9DB-484C-9279-A308F0FE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055-FB80-4B61-8FFA-4E4AD622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469-49B7-4702-8DE5-940E4307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853-4C77-4041-98E6-B4D8B52C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D9B-FAB9-467C-99D9-6601408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BE6-AD9C-4344-87D5-DC77A70C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C2C-91A7-4F90-938E-2CE99274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C806-0104-402C-AC75-2905A616A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-masslg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6858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04920"/>
            <a:ext cx="2819160" cy="67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ذا شعارُ فداء العالم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ه الفرحُ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ه الحق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ه سلامُ القل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1033993tZfahx_ph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0"/>
            <a:ext cx="3429000" cy="79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هذا جسدُكَ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هذا دمُكَ الطاهرُ فاغس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اغسل يا ربِّ خطايا العال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لتحيى بروحِكَ أنفُسُنا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2-11-19T10:45:14Z</dcterms:modified>
  <cp:revision>2</cp:revision>
  <dc:subject/>
  <dc:title>PowerPoint Presentation</dc:title>
</cp:coreProperties>
</file>